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</a:rPr>
              <a:t>Click to move the slide</a:t>
            </a: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329C-7106-44E4-810F-1DC084C21B0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F274-BB4D-4440-ACAD-7806EC411856}" type="slidenum">
              <a:rPr b="0" lang="de-DE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C369-9628-4068-A79E-60362905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969F-9D87-4AFB-A8FC-9D7157B4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194F-6539-4D04-987E-819BE9F6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6E9E-345D-4C16-9DA4-504193E3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CDDD-74CD-4C8B-9C89-D7567FF0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7CA0-17D4-4275-8B50-CC6CBBE6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D014-8B6E-488E-A4DD-08F8E06E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6B2F-EBEC-4C38-B697-2102AAB6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-324000" y="333360"/>
            <a:ext cx="97920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3F3E-187C-40CF-9CA5-550A7123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FE3C-C35F-4BAB-B56F-B27BF0AD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4CFB-0220-48B3-AA15-B2726FCD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91E3-F292-4984-90DB-52EF27EF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</a:rPr>
              <a:t>Click to edit the title text format</a:t>
            </a: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Charlotte Eber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Los Tuare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Februar 20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ikipedia.de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3 Marcador de fecha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Charlotte Eber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Los Tuareg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Arial"/>
              </a:rPr>
              <a:t>Los Tuaregs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graphicFrame>
        <p:nvGraphicFramePr>
          <p:cNvPr id="67" name="Object 5"/>
          <p:cNvGraphicFramePr/>
          <p:nvPr/>
        </p:nvGraphicFramePr>
        <p:xfrm>
          <a:off x="1714680" y="1998720"/>
          <a:ext cx="571500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1998720"/>
                    <a:ext cx="57150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4 Marcador de fecha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Charlotte Eber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" name="5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Los Tuareg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60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60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Verdana"/>
              </a:rPr>
              <a:t>Contenido</a:t>
            </a:r>
            <a:r>
              <a:rPr b="0" lang="de-DE" sz="60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60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60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60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endParaRPr b="0" lang="en-US" sz="60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¿Quiénes son los tuaregs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¿Dónde viven los tuaregs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Características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culturales</a:t>
            </a:r>
            <a:r>
              <a:rPr b="0" lang="de-DE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La socieda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Las residenci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Indicación de las fuent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73" name="Picture 4" descr="Menschen von Tezirzait"/>
          <p:cNvPicPr/>
          <p:nvPr/>
        </p:nvPicPr>
        <p:blipFill>
          <a:blip r:embed="rId1"/>
          <a:stretch/>
        </p:blipFill>
        <p:spPr>
          <a:xfrm>
            <a:off x="4140360" y="2924280"/>
            <a:ext cx="476388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3 Marcador de fecha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Charlotte Eber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Los Tuareg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ffffcc"/>
                </a:solidFill>
                <a:uFillTx/>
                <a:latin typeface="Verdana"/>
              </a:rPr>
              <a:t>           </a:t>
            </a:r>
            <a:r>
              <a:rPr b="0" lang="de-DE" sz="4000" spc="-1" strike="noStrike" u="sng">
                <a:solidFill>
                  <a:srgbClr val="ffffcc"/>
                </a:solidFill>
                <a:uFillTx/>
                <a:latin typeface="Verdana"/>
              </a:rPr>
              <a:t>¿Quiénes son los tuaregs?</a:t>
            </a:r>
            <a:r>
              <a:rPr b="0" lang="de-DE" sz="4000" spc="-1" strike="noStrike" u="sng">
                <a:solidFill>
                  <a:srgbClr val="ffffcc"/>
                </a:solidFill>
                <a:uFillTx/>
                <a:latin typeface="Arial"/>
              </a:rPr>
              <a:t>      </a:t>
            </a:r>
            <a:r>
              <a:rPr b="0" lang="de-DE" sz="40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endParaRPr b="0" lang="en-US" sz="40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No son una raza/nación uniforme (einheitlich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El nombre „Tuareg“ </a:t>
            </a:r>
            <a:r>
              <a:rPr b="0" lang="fr-FR" sz="2000" spc="-1" strike="noStrike">
                <a:solidFill>
                  <a:srgbClr val="eaeaea"/>
                </a:solidFill>
                <a:latin typeface="Verdana"/>
              </a:rPr>
              <a:t>tiene su raíz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 tal vez en la lengua árabe y significa „los hombres rechazan a Dios“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„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Wa isawalen tamahak imda amahag“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proverbio: „Quién habla tamahak, es un tuareg“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Según esta definición se puede hablar de 1 millón de tuaregs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- 500 000 viven en Nigeria (10% de la población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- 300 000 viven en Mali ( menos de 5%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- menos de 50 000 viven en Argelia y Libi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4 Marcador de fecha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Charlotte Eber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5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Los Tuareg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ffffcc"/>
                </a:solidFill>
                <a:uFillTx/>
                <a:latin typeface="Verdana"/>
              </a:rPr>
              <a:t>¿Dónde viven los tuaregs?</a:t>
            </a: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4319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Los Tuaregs son nómadas y ganaderos (Viehhälter)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Viven en el Sahara central y en la zona del Sah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Este territorio se extende por 5 estados nacionales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- Argelia (árabe y              francés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- Libia (árabe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- Nigeria (francés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- Burkina Faso (francés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- Mali (francés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82" name="Picture 13" descr="Temet"/>
          <p:cNvPicPr/>
          <p:nvPr/>
        </p:nvPicPr>
        <p:blipFill>
          <a:blip r:embed="rId1"/>
          <a:stretch/>
        </p:blipFill>
        <p:spPr>
          <a:xfrm>
            <a:off x="4788000" y="1628640"/>
            <a:ext cx="40384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4 Marcador de fecha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Charlotte Eber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5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Los Tuareg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40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40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1" lang="de-DE" sz="3200" spc="-1" strike="noStrike" u="sng">
                <a:solidFill>
                  <a:srgbClr val="ffffcc"/>
                </a:solidFill>
                <a:uFillTx/>
                <a:latin typeface="Arial"/>
              </a:rPr>
              <a:t>Características culturales</a:t>
            </a:r>
            <a:r>
              <a:rPr b="0" lang="de-DE" sz="4000" spc="-1" strike="noStrike" u="sng">
                <a:solidFill>
                  <a:srgbClr val="ffffcc"/>
                </a:solidFill>
                <a:uFillTx/>
                <a:latin typeface="Arial"/>
              </a:rPr>
              <a:t> </a:t>
            </a:r>
            <a:r>
              <a:rPr b="0" lang="de-DE" sz="40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40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endParaRPr b="0" lang="en-US" sz="40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El hombre lleva un velo (Gesichtsschleier)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-&gt; Kel Tugulmus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La existencia económica depende de la posesión de los camello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Los hombres se cuidan de los camellos y las mujeres de las cabras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Las mujeres ocupan una posición fuerte en la vida social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87" name="Picture 21" descr="Tanz der Kamele"/>
          <p:cNvPicPr/>
          <p:nvPr/>
        </p:nvPicPr>
        <p:blipFill>
          <a:blip r:embed="rId1"/>
          <a:stretch/>
        </p:blipFill>
        <p:spPr>
          <a:xfrm>
            <a:off x="324000" y="1773360"/>
            <a:ext cx="4038480" cy="26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4 Marcador de fecha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Charlotte Eber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5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Los Tuareg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ffffcc"/>
                </a:solidFill>
                <a:uFillTx/>
                <a:latin typeface="Arial"/>
              </a:rPr>
              <a:t>       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Arial"/>
              </a:rPr>
              <a:t>    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Verdana"/>
              </a:rPr>
              <a:t>La sociedad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Arial"/>
              </a:rPr>
              <a:t>                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064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Los tuaregs tienen una estructura social (gesellschaftliche Gliederung) que es marcada por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Las clases se diferencian en valores religiosos y sociales y en el influjo económico y polític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Un niño siempre pertenece a la capa social de su madr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2" name="Picture 8" descr="karawane"/>
          <p:cNvPicPr/>
          <p:nvPr/>
        </p:nvPicPr>
        <p:blipFill>
          <a:blip r:embed="rId1"/>
          <a:stretch/>
        </p:blipFill>
        <p:spPr>
          <a:xfrm>
            <a:off x="468360" y="4221000"/>
            <a:ext cx="8280360" cy="19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3 Marcador de fecha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Charlotte Eber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Los Tuareg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95" name="Diagram 14"/>
          <p:cNvGrpSpPr/>
          <p:nvPr/>
        </p:nvGrpSpPr>
        <p:grpSpPr>
          <a:xfrm>
            <a:off x="1547640" y="1292400"/>
            <a:ext cx="5978520" cy="5160960"/>
            <a:chOff x="1547640" y="1292400"/>
            <a:chExt cx="5978520" cy="5160960"/>
          </a:xfrm>
        </p:grpSpPr>
        <p:sp>
          <p:nvSpPr>
            <p:cNvPr id="96" name="_s2052"/>
            <p:cNvSpPr/>
            <p:nvPr/>
          </p:nvSpPr>
          <p:spPr>
            <a:xfrm flipV="1">
              <a:off x="4040280" y="1292400"/>
              <a:ext cx="1058760" cy="917280"/>
            </a:xfrm>
            <a:custGeom>
              <a:avLst/>
              <a:gdLst>
                <a:gd name="textAreaLeft" fmla="*/ 379800 w 1058760"/>
                <a:gd name="textAreaRight" fmla="*/ 678960 w 1058760"/>
                <a:gd name="textAreaTop" fmla="*/ 329040 h 917280"/>
                <a:gd name="textAreaBottom" fmla="*/ 588240 h 91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3399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120" bIns="691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1.</a:t>
              </a:r>
              <a:r>
                <a:rPr b="1" lang="de-DE" sz="1800" spc="-1" strike="noStrike">
                  <a:solidFill>
                    <a:srgbClr val="eaeaea"/>
                  </a:solidFill>
                  <a:latin typeface="Verdana"/>
                </a:rPr>
                <a:t>Imascheren</a:t>
              </a: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 (la nobleza) -&gt; libre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Fuerza política/económica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Privilegio: La cría y la posesión de camello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7" name="_s2053"/>
            <p:cNvSpPr/>
            <p:nvPr/>
          </p:nvSpPr>
          <p:spPr>
            <a:xfrm flipV="1">
              <a:off x="3510000" y="2209680"/>
              <a:ext cx="2119320" cy="919440"/>
            </a:xfrm>
            <a:custGeom>
              <a:avLst/>
              <a:gdLst>
                <a:gd name="textAreaLeft" fmla="*/ 465840 w 2119320"/>
                <a:gd name="textAreaRight" fmla="*/ 1653480 w 2119320"/>
                <a:gd name="textAreaTop" fmla="*/ 201960 h 919440"/>
                <a:gd name="textAreaBottom" fmla="*/ 717480 h 91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99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120" bIns="691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2.</a:t>
              </a:r>
              <a:r>
                <a:rPr b="1" lang="de-DE" sz="1800" spc="-1" strike="noStrike">
                  <a:solidFill>
                    <a:srgbClr val="eaeaea"/>
                  </a:solidFill>
                  <a:latin typeface="Verdana"/>
                </a:rPr>
                <a:t>Ineslemen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Son como los Imascheren,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Tienen conocimientos sobre el córan 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8" name="_s2054"/>
            <p:cNvSpPr/>
            <p:nvPr/>
          </p:nvSpPr>
          <p:spPr>
            <a:xfrm flipV="1">
              <a:off x="2979720" y="3129120"/>
              <a:ext cx="3179880" cy="917280"/>
            </a:xfrm>
            <a:custGeom>
              <a:avLst/>
              <a:gdLst>
                <a:gd name="textAreaLeft" fmla="*/ 551880 w 3179880"/>
                <a:gd name="textAreaRight" fmla="*/ 2628000 w 3179880"/>
                <a:gd name="textAreaTop" fmla="*/ 159120 h 917280"/>
                <a:gd name="textAreaBottom" fmla="*/ 758160 h 91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3399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120" bIns="691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3.</a:t>
              </a:r>
              <a:r>
                <a:rPr b="1" lang="de-DE" sz="1800" spc="-1" strike="noStrike">
                  <a:solidFill>
                    <a:srgbClr val="eaeaea"/>
                  </a:solidFill>
                  <a:latin typeface="Verdana"/>
                </a:rPr>
                <a:t>Vasallen</a:t>
              </a: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 (</a:t>
              </a:r>
              <a:r>
                <a:rPr b="0" lang="it-IT" sz="1800" spc="-1" strike="noStrike">
                  <a:solidFill>
                    <a:srgbClr val="eaeaea"/>
                  </a:solidFill>
                  <a:latin typeface="Verdana"/>
                </a:rPr>
                <a:t>proporcionalmente la mayoría</a:t>
              </a:r>
              <a:r>
                <a:rPr b="0" lang="it-IT" sz="1800" spc="-1" strike="noStrike">
                  <a:solidFill>
                    <a:srgbClr val="eaeaea"/>
                  </a:solidFill>
                  <a:latin typeface="Verdana"/>
                </a:rPr>
                <a:t>)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Tienen la piel blanca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Siguen las instrucciones de los Imascheren/Ineslemen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9" name="_s2055"/>
            <p:cNvSpPr/>
            <p:nvPr/>
          </p:nvSpPr>
          <p:spPr>
            <a:xfrm flipV="1">
              <a:off x="2449440" y="4045680"/>
              <a:ext cx="4240440" cy="917640"/>
            </a:xfrm>
            <a:custGeom>
              <a:avLst/>
              <a:gdLst>
                <a:gd name="textAreaLeft" fmla="*/ 637920 w 4240440"/>
                <a:gd name="textAreaRight" fmla="*/ 3602520 w 4240440"/>
                <a:gd name="textAreaTop" fmla="*/ 137880 h 917640"/>
                <a:gd name="textAreaBottom" fmla="*/ 779760 h 91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3399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120" bIns="691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4.</a:t>
              </a:r>
              <a:r>
                <a:rPr b="1" lang="de-DE" sz="1800" spc="-1" strike="noStrike">
                  <a:solidFill>
                    <a:srgbClr val="eaeaea"/>
                  </a:solidFill>
                  <a:latin typeface="Verdana"/>
                </a:rPr>
                <a:t>Iklan</a:t>
              </a: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Con piel morena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Son esclavos de las otras clase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0" name="Rectangle 20"/>
            <p:cNvSpPr/>
            <p:nvPr/>
          </p:nvSpPr>
          <p:spPr>
            <a:xfrm>
              <a:off x="1547640" y="5013360"/>
              <a:ext cx="5978520" cy="14400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5.</a:t>
              </a:r>
              <a:r>
                <a:rPr b="1" lang="de-DE" sz="1800" spc="-1" strike="noStrike">
                  <a:solidFill>
                    <a:srgbClr val="eaeaea"/>
                  </a:solidFill>
                  <a:latin typeface="Verdana"/>
                </a:rPr>
                <a:t>Enaden </a:t>
              </a: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(los artesanos = Handwerker)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Fuera de la jerarquía (Hierarchie)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Son respetados per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tambíen despreciados </a:t>
              </a:r>
              <a:r>
                <a:rPr b="0" lang="fr-FR" sz="1800" spc="-1" strike="noStrike">
                  <a:solidFill>
                    <a:srgbClr val="eaeaea"/>
                  </a:solidFill>
                  <a:latin typeface="Verdana"/>
                </a:rPr>
                <a:t>porque el resto de</a:t>
              </a: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 los tuaregs 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tienen miedo de los artesano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4 Marcador de fecha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Charlotte Eber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" name="5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Los Tuareg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ffffcc"/>
                </a:solidFill>
                <a:uFillTx/>
                <a:latin typeface="Verdana"/>
              </a:rPr>
              <a:t>	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Verdana"/>
              </a:rPr>
              <a:t>	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Verdana"/>
              </a:rPr>
              <a:t>	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Verdana"/>
              </a:rPr>
              <a:t>Las residencias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Verdana"/>
              </a:rPr>
              <a:t>	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Verdana"/>
              </a:rPr>
              <a:t>	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Verdana"/>
              </a:rPr>
              <a:t>	</a:t>
            </a: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Verdana"/>
              </a:rPr>
              <a:t>Las viviendas típicas son transportabl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Verdana"/>
              </a:rPr>
              <a:t>En la actualidad surgen urbanizacion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Verdana"/>
              </a:rPr>
              <a:t>Dignidad del hombre, sin criminalidad, prostitución y sin drog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05" name="Picture 7" descr="Nomadenzelt"/>
          <p:cNvPicPr/>
          <p:nvPr/>
        </p:nvPicPr>
        <p:blipFill>
          <a:blip r:embed="rId1"/>
          <a:stretch/>
        </p:blipFill>
        <p:spPr>
          <a:xfrm>
            <a:off x="4643280" y="1700280"/>
            <a:ext cx="403884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4 Marcador de fecha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Charlotte Eber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" name="5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Los Tuareg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ffffcc"/>
                </a:solidFill>
                <a:uFillTx/>
                <a:latin typeface="Verdana"/>
              </a:rPr>
              <a:t>	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Verdana"/>
              </a:rPr>
              <a:t> 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Verdana"/>
              </a:rPr>
              <a:t>indicación de las fuentes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Verdana"/>
              </a:rPr>
              <a:t>	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Verdana"/>
              </a:rPr>
              <a:t>	</a:t>
            </a: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www.wikipedia.d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aeaea"/>
                </a:solidFill>
                <a:latin typeface="Verdana"/>
              </a:rPr>
              <a:t>„</a:t>
            </a:r>
            <a:r>
              <a:rPr b="0" lang="de-DE" sz="2400" spc="-1" strike="noStrike">
                <a:solidFill>
                  <a:srgbClr val="eaeaea"/>
                </a:solidFill>
                <a:latin typeface="Verdana"/>
              </a:rPr>
              <a:t>Die Tuareg – kulturelle Einheit und regionale Vielfalt eines Hirtenvolkes“ von Gerhard Göttl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0" name="Picture 4" descr="Karawane vor Adrar Chiriet"/>
          <p:cNvPicPr/>
          <p:nvPr/>
        </p:nvPicPr>
        <p:blipFill>
          <a:blip r:embed="rId2"/>
          <a:stretch/>
        </p:blipFill>
        <p:spPr>
          <a:xfrm>
            <a:off x="1116000" y="3645000"/>
            <a:ext cx="6769080" cy="266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14:51:49Z</dcterms:created>
  <dc:creator>User</dc:creator>
  <dc:description/>
  <dc:language>en-US</dc:language>
  <cp:lastModifiedBy>Flia Bustamante</cp:lastModifiedBy>
  <dcterms:modified xsi:type="dcterms:W3CDTF">2012-09-28T05:52:43Z</dcterms:modified>
  <cp:revision>7</cp:revision>
  <dc:subject/>
  <dc:title>Folie 1</dc:title>
</cp:coreProperties>
</file>